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9F4-F50A-4F2C-9BA9-652461BF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071-68FE-4A4D-A65C-69DE7B86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038-35D6-49F4-A57B-0327B469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501-934B-4D2C-8C8C-A5D22E4B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D979-1FD9-434E-AE92-D3BCCC78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657C-7FFA-4C85-A0B5-1268DADD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17F1-99FC-4B6B-94C1-13860782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3564-8A4B-4E77-A075-96FB1D4C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CF23-869A-48D8-B73F-2A997C0C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4C1E-E07E-4878-8BEE-B777B59F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56B9-33BF-4FD4-9F58-71F35574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BC2-AF51-4694-AFBD-94ABB4E2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1851-B804-4C47-8F26-7316EAB8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735C-EFF4-42F7-B0C5-5851A04D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1168-0E9B-428C-9D73-1B4F9B39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A0AB-7116-40BE-9221-707D3173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8684-0835-4D96-8793-BB775250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8DCDC-E502-4628-A84F-2B2CDB55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3B7C3-D360-4B89-BD04-C76AEC54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FCEEF-E720-4DFF-9477-EE3A6460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3E608-14EA-477E-BA5A-7EEEEC90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D6223-F7F9-486F-9160-E48448C7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20F-1702-4F4E-A20B-1C69DD5D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D56D-D555-4EA8-9BCF-2E7E950A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7E28-74B9-431C-B1C4-036E5CD7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7E0C8-0CF0-48EA-B4DC-F0BD54BE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05B7B-CB7C-40DE-950A-06B06F74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08FA9-C6C1-4388-AA55-F2E4191B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A4E70-FA9F-42D4-BAC6-B8CCFC75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841A4-91A4-4694-A1E3-9FA32865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E1AB3-2244-414C-AC8D-A52707BC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C2884-FA8B-4724-86E5-53399D03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4F354-A755-4453-A9C7-6FFB2059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A6E-6247-4C63-8952-416F6739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AD5F7-DD55-49FB-BB47-76EDBAFA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1DA25-438A-4B46-BE4A-565BA545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19CCF-6481-4274-A914-0F60CC88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A3E54-6426-46BB-9E28-5FA36F71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E832D-A080-45B9-BFD8-0052907A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1251C-57D9-4101-BCEB-C2E922CD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67820-50A3-4FDE-90D2-EBBF4DFE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2A592-CD26-49A4-935F-A0F39E03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3E7F1-55E0-4463-B182-3AF435C1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8D029-3F11-4F3F-BE7F-689CE5F9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828-E742-4E96-BFE8-D7E3C664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200AD-8475-4F13-986B-5859FEFA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22585-E64E-4597-834A-0D35CB67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2A252-1ED0-4DE3-A63D-BE5620DF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5F1C0-F19D-4402-9EC8-C28140C6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91567-EDBF-4964-8902-BE51A06D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C21F9-83F0-4430-BDF4-98CC6101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09550-4A4E-4A42-8A06-3AD830BC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C8D48-07F2-4BE0-B622-1E5BD703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9C828-C3A9-479E-AF5F-E8A4BC73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85B45-74B5-447B-AE24-D8D34384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AB5-086E-44FA-B186-5FC23A3C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00328-668B-40CA-8488-E2155A58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754-3BAB-4B83-8C9D-3582EAC5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175-FB15-4393-B0E1-5DF4480A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6EF-81C9-4BE5-964D-D1EAA8AF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610C-7988-4695-AAEA-B5166693610B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345A-B5EF-48CC-99D5-DD6B2BDFF49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9C8D-94E2-4558-A9F9-B8C6190D49A9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BE8C-C530-40DA-839E-9E0BCD81DD0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55440" y="60480"/>
            <a:ext cx="9033120" cy="6711840"/>
            <a:chOff x="55440" y="60480"/>
            <a:chExt cx="903312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55440" y="60480"/>
              <a:ext cx="903312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7D0B-B0CA-4832-8154-EAEEA5ED80D6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9044-1D6A-4D2C-86AA-1776D0D9857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0031-F0F3-4D58-A3F6-05F080503C7E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60B8-4EB7-47C8-BAC2-2AE4FEB77F2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D068-4D93-4EF9-AEB8-CFF1E123FD46}" type="datetime">
              <a:rPr b="0" lang="en-US" sz="1400" spc="-1" strike="noStrike">
                <a:solidFill>
                  <a:srgbClr val="696464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F433-D249-492A-853C-08F5D409C92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Unit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hapter 8: Empire of Jap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3 – Growth of a Military Society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531000" indent="-22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Samurai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Use influence of Confucianism and Buddhism to lead disciplined live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Perpetua"/>
              </a:rPr>
              <a:t>Bushido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= code of conduct/rules for Samurai – required samurai to be brave and honorabl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Losing a battle, disobeying an order, etc. = ways a samurai could lose honor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Use ideas of Confucianism (duty to Daimyo)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Use ideas of </a:t>
            </a:r>
            <a:r>
              <a:rPr b="0" lang="en-US" sz="1900" spc="-1" strike="noStrike">
                <a:solidFill>
                  <a:srgbClr val="ff0000"/>
                </a:solidFill>
                <a:latin typeface="Perpetua"/>
              </a:rPr>
              <a:t>Zen Buddhism 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(self control and discipline) – many samurai meditate each day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Samurai role in society is primarily to serve and protect their daimyo and his land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lnSpc>
                <a:spcPct val="8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Samurai also police society, fight in battle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ushido, though designed for Samurai, portrays ideals and values of all Japanes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3 – Growth of a Military Society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Mongols attempt to invade Japan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– Japanese nobles must set aside differences in order to ban together to fight off Mongol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panese are aided by bad weather that hinders the Mongol’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ny nobles become dissatisfied with the shogun’s role during these two wars – begin to turn against shogun’s ru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aimyo landowners attempt to break free from shogun’s ru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By the 1400’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682200" indent="-189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hogun loses power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682200" indent="-189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mperor is still seen as a “figurehead” (no real power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682200" indent="-18972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aimyo’s control individual land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3 – Growth of a Military Society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1500’s – </a:t>
            </a: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Oda Nobunaga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comes first leader to reunify Japa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obunaga gives guns to his soldiers – makes them more effective in battle – allowed Oda Nobunaga to easily take control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fter death of Oda Nobunaga,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Tokugawa Ieyasu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akes over control of much of Japan. (1600’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Emperor declares Tokugawa Ieyasu as “shogun” of Japan – begins Tokugawa shogunat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3 – Growth of a Military Society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Isol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f Japa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pan’s shoguns became concerned that influence of outsiders would threaten their control over Japan – begin to isolate Japan from the wes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st of the world makes progress while Japan stays the same – Japan falls behin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Samurai period lasts until 1800’s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ecause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Japan was isolated from other cultures (did not make progres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Japan limited technology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Japan banned the use of gun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1 – Geography and Early Japan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Geograph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pan is an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archipelago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cluster of islands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jority of Japan is steep mountain slopes – 1/5 of land is flat enough for living and farming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ost Japanese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live near coast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– rely upon ocean for food (seafood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Japan’s geography </a:t>
            </a: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isolate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Japan from other cultures early in it’s history (due to the fact that it is an island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1 – Geography of Early Jap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rly Japane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inu people (north Japa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panese (south Japan) live in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clan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– or extended family unit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lans view themselves as rivals with one another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arly Japanese follow belief of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Shinto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hinto = everything in nature has a spirit (</a:t>
            </a: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kami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.  Goal of people is to be in harmony with the spirit of natur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hiefs of each Japanese clan is said to be a direct descendant of kami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irst powerful clan was the Yamato clan – began taking control of much of Japan and began calling themselves the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Emperors of Japa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1 – Geography and Early Jap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y 500’s Japan begins to desire progress and sends representatives to </a:t>
            </a: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China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Korea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to bring back new idea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pan brings over written language of Chin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pan brings over ideas of  Confucianism and Buddhism – later develop unique forms of Buddhism (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Zen Buddhism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&amp;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Pure Land Buddhism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80840" indent="-21708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Prince Shotoku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= influential figure (</a:t>
            </a: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regent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that brought many cultural items from China – especially a desire to spread Buddhism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41840" indent="-217080"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Regent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= someone who rules a country for someone who is unable to (Prince Shotoku ruled Japan for his aunt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2 – Art and Culture in Hei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mperor moves capital of Japan to </a:t>
            </a: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Heia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– many nobles follow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obles create an imperial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court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- nobles live near/serve as advisors to the Emperor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Life in imperial court = nobles are disinterested with life outside of the palac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obles known as “</a:t>
            </a: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dwellers among the cloud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” because they were not concerned with life throughout Japan or the poverty of the commoners – life was easy and removed from the rest of Japa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obles invest time and energy into creating a life of luxury, filled with the arts (fashion, literature, theatr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2 – Art and Culture in Hei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Litera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ossible because of the Chinese system of writing brought to Japa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riting was particularly popular with women in the Heian court – noble women develop early literature of Japa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ost men write in Chinese – Women use the newly developed Japanese writing system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97400" indent="-221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Lady Murasaki Shikibu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= greatest writer in early Japanese history.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63800" indent="-221400">
              <a:spcBef>
                <a:spcPts val="3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rote the first novel “</a:t>
            </a: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The Tale of Genji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” – which described the noble lifestyle as it follows the life of a princ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2 – Art and Culture in Heia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Buddhism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f Japa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uddhism is brought from China (Prince Shotoku) and then adapted in Japa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mmoners = 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Pure Land Buddhism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ecomes popular because it doesn’t require elaborate ritual – chant Buddha’s name over and over to reach enlightened st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Zen Buddhism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= popular with many Japanese, especially warrior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eek wisdom and practice self discipline through meditation (often around dry landscape garden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Samurai practice Zen Buddhism to help practice the discipline required in </a:t>
            </a: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Bushido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3 – Growth of a Military Society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panese landowners (</a:t>
            </a:r>
            <a:r>
              <a:rPr b="0" lang="en-US" sz="2400" spc="-1" strike="noStrike">
                <a:solidFill>
                  <a:srgbClr val="ff0000"/>
                </a:solidFill>
                <a:latin typeface="Perpetua"/>
              </a:rPr>
              <a:t>Daimyo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 take over control of lands in Japan – because Emperor was distracted by court lif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Daimyo need to protect their own lands so they hire </a:t>
            </a:r>
            <a:r>
              <a:rPr b="0" lang="en-US" sz="2200" spc="-1" strike="noStrike">
                <a:solidFill>
                  <a:srgbClr val="ff0000"/>
                </a:solidFill>
                <a:latin typeface="Perpetua"/>
              </a:rPr>
              <a:t>Samurai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(trained warriors) – protecting Daimyo’s land is a Samurai’s main responsibility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owerful nobles were dissatisfied with how the country was being run – decide to try to take control of the country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92480" indent="-205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Minamoto clan eventually takes control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739800" indent="-20556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Head of Minamoto clan becomes first </a:t>
            </a:r>
            <a:r>
              <a:rPr b="0" lang="en-US" sz="1900" spc="-1" strike="noStrike">
                <a:solidFill>
                  <a:srgbClr val="ff0000"/>
                </a:solidFill>
                <a:latin typeface="Perpetua"/>
              </a:rPr>
              <a:t>Shogun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 (military leader who rules in the emperor’s name)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739800" indent="-20556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Emperor becomes a “</a:t>
            </a:r>
            <a:r>
              <a:rPr b="0" lang="en-US" sz="1900" spc="-1" strike="noStrike">
                <a:solidFill>
                  <a:srgbClr val="ff0000"/>
                </a:solidFill>
                <a:latin typeface="Perpetua"/>
              </a:rPr>
              <a:t>figurehead</a:t>
            </a: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” while the Shogun has real power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739800" indent="-20556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erpetua"/>
              </a:rPr>
              <a:t>Minamoto Shogun rules Japan for almost 700 years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8.3 – Growth of a Military Society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Perpetua"/>
              </a:rPr>
              <a:t>Order of importance in Feudal Japa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) Emper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2) Shogun – though he often had more power than emper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3) Daimyo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4) Samura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5) Peasan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8:48:04Z</dcterms:created>
  <dc:creator>sduhsd</dc:creator>
  <dc:description/>
  <dc:language>en-US</dc:language>
  <cp:lastModifiedBy>City School</cp:lastModifiedBy>
  <dcterms:modified xsi:type="dcterms:W3CDTF">2011-12-01T01:40:47Z</dcterms:modified>
  <cp:revision>22</cp:revision>
  <dc:subject/>
  <dc:title>Chapter 8: Empire of Japan</dc:title>
</cp:coreProperties>
</file>